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A14A-ABAA-404F-AA20-58373C56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0A40-9AE9-4399-A961-C743897A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6B43-7D5E-464D-81D3-B49672A9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3E2-2985-4B72-8E51-71519B56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5E7-C020-41DC-B163-DBF5ABD2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90A8-F347-4944-8C22-884F3708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31A-9165-419A-A9BA-E994CA29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A92-76EB-4D2C-8B1D-CDD5E3DF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75D-3AD5-448B-A8AB-2A62479F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B25F-9953-414E-AE57-0A6B3C86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C49-6913-4287-AAFD-549CAC85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1B4-944E-438A-AA5B-A254EBA2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8E8F-F6ED-428F-ACAB-DDBB70A0C1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72120" y="2951640"/>
            <a:ext cx="212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1.1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一次函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一章 一次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777760" y="3970440"/>
            <a:ext cx="32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正比例函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1835280" y="4863960"/>
            <a:ext cx="433080" cy="730440"/>
          </a:xfrm>
          <a:custGeom>
            <a:avLst/>
            <a:gdLst>
              <a:gd name="textAreaLeft" fmla="*/ 276840 w 433080"/>
              <a:gd name="textAreaRight" fmla="*/ 433440 w 433080"/>
              <a:gd name="textAreaTop" fmla="*/ 48600 h 730440"/>
              <a:gd name="textAreaBottom" fmla="*/ 681840 h 73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97"/>
                  <a:pt x="10800" y="4594"/>
                </a:cubicBezTo>
                <a:lnTo>
                  <a:pt x="10800" y="7191"/>
                </a:lnTo>
                <a:cubicBezTo>
                  <a:pt x="10800" y="9488"/>
                  <a:pt x="5400" y="11785"/>
                  <a:pt x="0" y="11785"/>
                </a:cubicBezTo>
                <a:cubicBezTo>
                  <a:pt x="5400" y="11785"/>
                  <a:pt x="10800" y="14082"/>
                  <a:pt x="10800" y="16379"/>
                </a:cubicBezTo>
                <a:lnTo>
                  <a:pt x="10800" y="17006"/>
                </a:lnTo>
                <a:cubicBezTo>
                  <a:pt x="10800" y="1930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1138320" y="4954680"/>
            <a:ext cx="27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是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  <a:ea typeface="黑体"/>
              </a:rPr>
              <a:t>正比例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4092480" y="4633560"/>
            <a:ext cx="39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解析式可转化为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y=k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常数，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 ≠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的形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4325760" y="2435040"/>
            <a:ext cx="32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≠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=±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1882800" y="3624480"/>
            <a:ext cx="16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=-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3"/>
          <p:cNvGrpSpPr/>
          <p:nvPr/>
        </p:nvGrpSpPr>
        <p:grpSpPr>
          <a:xfrm>
            <a:off x="1189080" y="1785960"/>
            <a:ext cx="6832440" cy="650520"/>
            <a:chOff x="1189080" y="1785960"/>
            <a:chExt cx="6832440" cy="650520"/>
          </a:xfrm>
        </p:grpSpPr>
        <p:pic>
          <p:nvPicPr>
            <p:cNvPr id="189" name="Object 2" descr=""/>
            <p:cNvPicPr/>
            <p:nvPr/>
          </p:nvPicPr>
          <p:blipFill>
            <a:blip r:embed="rId1"/>
            <a:stretch/>
          </p:blipFill>
          <p:spPr>
            <a:xfrm>
              <a:off x="2763360" y="1785960"/>
              <a:ext cx="314820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Rectangle 15"/>
            <p:cNvSpPr/>
            <p:nvPr/>
          </p:nvSpPr>
          <p:spPr>
            <a:xfrm>
              <a:off x="1189080" y="1793880"/>
              <a:ext cx="6832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解：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∵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函数                                       是正比例函数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16"/>
          <p:cNvSpPr/>
          <p:nvPr/>
        </p:nvSpPr>
        <p:spPr>
          <a:xfrm>
            <a:off x="2197080" y="2730600"/>
            <a:ext cx="216000" cy="6778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677880"/>
              <a:gd name="textAreaBottom" fmla="*/ 657360 h 67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50"/>
                  <a:pt x="10800" y="2099"/>
                </a:cubicBezTo>
                <a:lnTo>
                  <a:pt x="10800" y="8701"/>
                </a:lnTo>
                <a:cubicBezTo>
                  <a:pt x="10800" y="9751"/>
                  <a:pt x="5400" y="10800"/>
                  <a:pt x="0" y="10800"/>
                </a:cubicBezTo>
                <a:cubicBezTo>
                  <a:pt x="5400" y="10800"/>
                  <a:pt x="10800" y="11850"/>
                  <a:pt x="10800" y="12899"/>
                </a:cubicBezTo>
                <a:lnTo>
                  <a:pt x="10800" y="19501"/>
                </a:lnTo>
                <a:cubicBezTo>
                  <a:pt x="10800" y="2055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7"/>
          <p:cNvSpPr/>
          <p:nvPr/>
        </p:nvSpPr>
        <p:spPr>
          <a:xfrm>
            <a:off x="4754520" y="2803680"/>
            <a:ext cx="216000" cy="6778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677880"/>
              <a:gd name="textAreaBottom" fmla="*/ 657360 h 67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50"/>
                  <a:pt x="10800" y="2099"/>
                </a:cubicBezTo>
                <a:lnTo>
                  <a:pt x="10800" y="8701"/>
                </a:lnTo>
                <a:cubicBezTo>
                  <a:pt x="10800" y="9751"/>
                  <a:pt x="5400" y="10800"/>
                  <a:pt x="0" y="10800"/>
                </a:cubicBezTo>
                <a:cubicBezTo>
                  <a:pt x="5400" y="10800"/>
                  <a:pt x="10800" y="11850"/>
                  <a:pt x="10800" y="12899"/>
                </a:cubicBezTo>
                <a:lnTo>
                  <a:pt x="10800" y="19501"/>
                </a:lnTo>
                <a:cubicBezTo>
                  <a:pt x="10800" y="2055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1757520" y="2354760"/>
            <a:ext cx="193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-1≠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4"/>
          <p:cNvGrpSpPr/>
          <p:nvPr/>
        </p:nvGrpSpPr>
        <p:grpSpPr>
          <a:xfrm>
            <a:off x="611280" y="653760"/>
            <a:ext cx="6970680" cy="941400"/>
            <a:chOff x="611280" y="653760"/>
            <a:chExt cx="6970680" cy="941400"/>
          </a:xfrm>
        </p:grpSpPr>
        <p:sp>
          <p:nvSpPr>
            <p:cNvPr id="195" name="Rectangle 7"/>
            <p:cNvSpPr/>
            <p:nvPr/>
          </p:nvSpPr>
          <p:spPr>
            <a:xfrm>
              <a:off x="611280" y="770040"/>
              <a:ext cx="6970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96666"/>
                  </a:solidFill>
                  <a:latin typeface="Times New Roman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196666"/>
                  </a:solidFill>
                  <a:latin typeface="Times New Roman"/>
                  <a:ea typeface="黑体"/>
                </a:rPr>
                <a:t>例</a:t>
              </a:r>
              <a:r>
                <a:rPr b="0" lang="en-US" sz="2400" spc="-1" strike="noStrike">
                  <a:solidFill>
                    <a:srgbClr val="196666"/>
                  </a:solidFill>
                  <a:latin typeface="Times New Roman"/>
                  <a:ea typeface="黑体"/>
                </a:rPr>
                <a:t>2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函数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1)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是正比例函数，求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Object 2" descr=""/>
            <p:cNvPicPr/>
            <p:nvPr/>
          </p:nvPicPr>
          <p:blipFill>
            <a:blip r:embed="rId2"/>
            <a:stretch/>
          </p:blipFill>
          <p:spPr>
            <a:xfrm>
              <a:off x="4449600" y="653760"/>
              <a:ext cx="502920" cy="58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圆角矩形 31"/>
          <p:cNvSpPr/>
          <p:nvPr/>
        </p:nvSpPr>
        <p:spPr>
          <a:xfrm>
            <a:off x="573120" y="642960"/>
            <a:ext cx="10285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905040" y="1644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若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-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比例函数，则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6585120" y="164448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903240" y="2744640"/>
            <a:ext cx="7669440" cy="459720"/>
            <a:chOff x="903240" y="2744640"/>
            <a:chExt cx="7669440" cy="459720"/>
          </a:xfrm>
        </p:grpSpPr>
        <p:sp>
          <p:nvSpPr>
            <p:cNvPr id="201" name="Text Box 11"/>
            <p:cNvSpPr/>
            <p:nvPr/>
          </p:nvSpPr>
          <p:spPr>
            <a:xfrm>
              <a:off x="903240" y="2744640"/>
              <a:ext cx="766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若                    是正比例函数，则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=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Object 12" descr=""/>
            <p:cNvPicPr/>
            <p:nvPr/>
          </p:nvPicPr>
          <p:blipFill>
            <a:blip r:embed="rId1"/>
            <a:stretch/>
          </p:blipFill>
          <p:spPr>
            <a:xfrm>
              <a:off x="2124000" y="2760480"/>
              <a:ext cx="1422000" cy="43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Text Box 13"/>
          <p:cNvSpPr/>
          <p:nvPr/>
        </p:nvSpPr>
        <p:spPr>
          <a:xfrm>
            <a:off x="6789600" y="2739960"/>
            <a:ext cx="4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892080" y="3471840"/>
            <a:ext cx="784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(m-2)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lml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比例函数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——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6561000" y="340056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6147"/>
          <p:cNvGrpSpPr/>
          <p:nvPr/>
        </p:nvGrpSpPr>
        <p:grpSpPr>
          <a:xfrm>
            <a:off x="325440" y="246240"/>
            <a:ext cx="3583440" cy="808200"/>
            <a:chOff x="325440" y="246240"/>
            <a:chExt cx="3583440" cy="808200"/>
          </a:xfrm>
        </p:grpSpPr>
        <p:sp>
          <p:nvSpPr>
            <p:cNvPr id="207" name="矩形 7"/>
            <p:cNvSpPr/>
            <p:nvPr/>
          </p:nvSpPr>
          <p:spPr>
            <a:xfrm>
              <a:off x="885600" y="246240"/>
              <a:ext cx="167328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6151"/>
            <p:cNvSpPr/>
            <p:nvPr/>
          </p:nvSpPr>
          <p:spPr>
            <a:xfrm>
              <a:off x="1594440" y="52020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正比例函数简单的应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"/>
          <p:cNvSpPr/>
          <p:nvPr/>
        </p:nvSpPr>
        <p:spPr>
          <a:xfrm>
            <a:off x="757080" y="1123920"/>
            <a:ext cx="76312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一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公顷的成熟麦田，用一台收割速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公顷每小时的小麦收割机来收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收割的面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公顷）与收割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之间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收割完这块麦田需用的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1442880" y="4416480"/>
            <a:ext cx="55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0.5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把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代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0.5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=0.5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=2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即收割完这块麦田需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0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233360" y="2603520"/>
            <a:ext cx="501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ff"/>
                </a:solidFill>
                <a:latin typeface="Times New Roman"/>
                <a:ea typeface="黑体"/>
              </a:rPr>
              <a:t>解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  <a:ea typeface="黑体"/>
              </a:rPr>
              <a:t>:</a:t>
            </a:r>
            <a:r>
              <a:rPr b="0" lang="zh-CN" sz="22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0000ff"/>
                </a:solidFill>
                <a:latin typeface="Times New Roman"/>
                <a:ea typeface="黑体"/>
              </a:rPr>
              <a:t>）设正比例函数解析式是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  <a:ea typeface="黑体"/>
              </a:rPr>
              <a:t>y=kx</a:t>
            </a:r>
            <a:r>
              <a:rPr b="0" lang="zh-CN" sz="22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730520" y="309888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把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 =-4, y =2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代入上式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5438880" y="308772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 = -4k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5"/>
          <p:cNvGrpSpPr/>
          <p:nvPr/>
        </p:nvGrpSpPr>
        <p:grpSpPr>
          <a:xfrm>
            <a:off x="179280" y="4479840"/>
            <a:ext cx="6981480" cy="977400"/>
            <a:chOff x="179280" y="4479840"/>
            <a:chExt cx="6981480" cy="977400"/>
          </a:xfrm>
        </p:grpSpPr>
        <p:sp>
          <p:nvSpPr>
            <p:cNvPr id="218" name="Text Box 6"/>
            <p:cNvSpPr/>
            <p:nvPr/>
          </p:nvSpPr>
          <p:spPr>
            <a:xfrm>
              <a:off x="179280" y="4638600"/>
              <a:ext cx="698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              ∴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所求的正比例函数解析式是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= -  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7"/>
            <p:cNvSpPr/>
            <p:nvPr/>
          </p:nvSpPr>
          <p:spPr>
            <a:xfrm>
              <a:off x="6259680" y="48146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8"/>
            <p:cNvSpPr/>
            <p:nvPr/>
          </p:nvSpPr>
          <p:spPr>
            <a:xfrm>
              <a:off x="6259680" y="44798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6298200" y="5033880"/>
              <a:ext cx="235080" cy="0"/>
            </a:xfrm>
            <a:prstGeom prst="line">
              <a:avLst/>
            </a:prstGeom>
            <a:ln w="34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0"/>
          <p:cNvGrpSpPr/>
          <p:nvPr/>
        </p:nvGrpSpPr>
        <p:grpSpPr>
          <a:xfrm>
            <a:off x="1720800" y="3720960"/>
            <a:ext cx="3048120" cy="985320"/>
            <a:chOff x="1720800" y="3720960"/>
            <a:chExt cx="3048120" cy="985320"/>
          </a:xfrm>
        </p:grpSpPr>
        <p:sp>
          <p:nvSpPr>
            <p:cNvPr id="223" name="Text Box 11"/>
            <p:cNvSpPr/>
            <p:nvPr/>
          </p:nvSpPr>
          <p:spPr>
            <a:xfrm>
              <a:off x="1720800" y="3854160"/>
              <a:ext cx="30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解得 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k= -    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2"/>
            <p:cNvSpPr/>
            <p:nvPr/>
          </p:nvSpPr>
          <p:spPr>
            <a:xfrm>
              <a:off x="3152160" y="40636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3"/>
            <p:cNvSpPr/>
            <p:nvPr/>
          </p:nvSpPr>
          <p:spPr>
            <a:xfrm>
              <a:off x="3141000" y="37209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3183120" y="4249440"/>
              <a:ext cx="228600" cy="0"/>
            </a:xfrm>
            <a:prstGeom prst="line">
              <a:avLst/>
            </a:prstGeom>
            <a:ln w="34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Rectangle 16"/>
          <p:cNvSpPr/>
          <p:nvPr/>
        </p:nvSpPr>
        <p:spPr>
          <a:xfrm>
            <a:off x="1538280" y="542304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）当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=6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,  y =-6/2= -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803160" y="8701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正比例函数当自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等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等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正比例函数的解析式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=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8"/>
          <p:cNvGrpSpPr/>
          <p:nvPr/>
        </p:nvGrpSpPr>
        <p:grpSpPr>
          <a:xfrm>
            <a:off x="7041960" y="2527200"/>
            <a:ext cx="1371960" cy="642600"/>
            <a:chOff x="7041960" y="2527200"/>
            <a:chExt cx="1371960" cy="642600"/>
          </a:xfrm>
        </p:grpSpPr>
        <p:sp>
          <p:nvSpPr>
            <p:cNvPr id="230" name="Line 19"/>
            <p:cNvSpPr/>
            <p:nvPr/>
          </p:nvSpPr>
          <p:spPr>
            <a:xfrm flipH="1">
              <a:off x="7041960" y="2923920"/>
              <a:ext cx="609480" cy="0"/>
            </a:xfrm>
            <a:prstGeom prst="line">
              <a:avLst/>
            </a:prstGeom>
            <a:ln w="633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0"/>
            <p:cNvSpPr/>
            <p:nvPr/>
          </p:nvSpPr>
          <p:spPr>
            <a:xfrm>
              <a:off x="7651800" y="25272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21"/>
          <p:cNvGrpSpPr/>
          <p:nvPr/>
        </p:nvGrpSpPr>
        <p:grpSpPr>
          <a:xfrm>
            <a:off x="7041960" y="3054240"/>
            <a:ext cx="1371960" cy="642600"/>
            <a:chOff x="7041960" y="3054240"/>
            <a:chExt cx="1371960" cy="642600"/>
          </a:xfrm>
        </p:grpSpPr>
        <p:sp>
          <p:nvSpPr>
            <p:cNvPr id="233" name="Line 22"/>
            <p:cNvSpPr/>
            <p:nvPr/>
          </p:nvSpPr>
          <p:spPr>
            <a:xfrm flipH="1">
              <a:off x="7041960" y="3450960"/>
              <a:ext cx="609480" cy="0"/>
            </a:xfrm>
            <a:prstGeom prst="line">
              <a:avLst/>
            </a:prstGeom>
            <a:ln w="633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3"/>
            <p:cNvSpPr/>
            <p:nvPr/>
          </p:nvSpPr>
          <p:spPr>
            <a:xfrm>
              <a:off x="7651800" y="305424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24"/>
          <p:cNvGrpSpPr/>
          <p:nvPr/>
        </p:nvGrpSpPr>
        <p:grpSpPr>
          <a:xfrm>
            <a:off x="7041960" y="3668760"/>
            <a:ext cx="1371960" cy="642600"/>
            <a:chOff x="7041960" y="3668760"/>
            <a:chExt cx="1371960" cy="642600"/>
          </a:xfrm>
        </p:grpSpPr>
        <p:sp>
          <p:nvSpPr>
            <p:cNvPr id="236" name="Line 25"/>
            <p:cNvSpPr/>
            <p:nvPr/>
          </p:nvSpPr>
          <p:spPr>
            <a:xfrm flipH="1">
              <a:off x="7041960" y="4065480"/>
              <a:ext cx="609480" cy="0"/>
            </a:xfrm>
            <a:prstGeom prst="line">
              <a:avLst/>
            </a:prstGeom>
            <a:ln w="633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26"/>
            <p:cNvSpPr/>
            <p:nvPr/>
          </p:nvSpPr>
          <p:spPr>
            <a:xfrm>
              <a:off x="7651800" y="366876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27"/>
          <p:cNvGrpSpPr/>
          <p:nvPr/>
        </p:nvGrpSpPr>
        <p:grpSpPr>
          <a:xfrm>
            <a:off x="7041960" y="4294080"/>
            <a:ext cx="1371960" cy="642600"/>
            <a:chOff x="7041960" y="4294080"/>
            <a:chExt cx="1371960" cy="642600"/>
          </a:xfrm>
        </p:grpSpPr>
        <p:sp>
          <p:nvSpPr>
            <p:cNvPr id="239" name="Line 28"/>
            <p:cNvSpPr/>
            <p:nvPr/>
          </p:nvSpPr>
          <p:spPr>
            <a:xfrm flipH="1">
              <a:off x="7041960" y="4691160"/>
              <a:ext cx="609480" cy="0"/>
            </a:xfrm>
            <a:prstGeom prst="line">
              <a:avLst/>
            </a:prstGeom>
            <a:ln w="633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9"/>
            <p:cNvSpPr/>
            <p:nvPr/>
          </p:nvSpPr>
          <p:spPr>
            <a:xfrm>
              <a:off x="7651800" y="429408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30"/>
          <p:cNvGrpSpPr/>
          <p:nvPr/>
        </p:nvGrpSpPr>
        <p:grpSpPr>
          <a:xfrm>
            <a:off x="6486480" y="5477040"/>
            <a:ext cx="2297160" cy="732960"/>
            <a:chOff x="6486480" y="5477040"/>
            <a:chExt cx="2297160" cy="732960"/>
          </a:xfrm>
        </p:grpSpPr>
        <p:sp>
          <p:nvSpPr>
            <p:cNvPr id="242" name="AutoShape 31"/>
            <p:cNvSpPr/>
            <p:nvPr/>
          </p:nvSpPr>
          <p:spPr>
            <a:xfrm>
              <a:off x="6486480" y="5495400"/>
              <a:ext cx="2297160" cy="714600"/>
            </a:xfrm>
            <a:prstGeom prst="wedgeEllipseCallout">
              <a:avLst>
                <a:gd name="adj1" fmla="val -60078"/>
                <a:gd name="adj2" fmla="val -69009"/>
              </a:avLst>
            </a:prstGeom>
            <a:solidFill>
              <a:srgbClr val="bade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2"/>
            <p:cNvSpPr/>
            <p:nvPr/>
          </p:nvSpPr>
          <p:spPr>
            <a:xfrm>
              <a:off x="6792120" y="5477040"/>
              <a:ext cx="17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待定系数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圆角矩形 31"/>
          <p:cNvSpPr/>
          <p:nvPr/>
        </p:nvSpPr>
        <p:spPr>
          <a:xfrm>
            <a:off x="573120" y="571680"/>
            <a:ext cx="102852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958680" y="287280"/>
            <a:ext cx="763452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某种小汽车的耗油量是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耗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 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所使用的汽油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 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汽车行驶途中所耗油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与行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之间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计算该汽车行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20 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需油费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Object 38" descr=""/>
          <p:cNvPicPr/>
          <p:nvPr/>
        </p:nvPicPr>
        <p:blipFill>
          <a:blip r:embed="rId1"/>
          <a:stretch/>
        </p:blipFill>
        <p:spPr>
          <a:xfrm>
            <a:off x="2760840" y="4000680"/>
            <a:ext cx="934920" cy="7635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2"/>
          <p:cNvSpPr/>
          <p:nvPr/>
        </p:nvSpPr>
        <p:spPr>
          <a:xfrm>
            <a:off x="2324160" y="41385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Object 69" descr=""/>
          <p:cNvPicPr/>
          <p:nvPr/>
        </p:nvPicPr>
        <p:blipFill>
          <a:blip r:embed="rId2"/>
          <a:stretch/>
        </p:blipFill>
        <p:spPr>
          <a:xfrm>
            <a:off x="3851280" y="4141800"/>
            <a:ext cx="936720" cy="5065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74"/>
          <p:cNvSpPr/>
          <p:nvPr/>
        </p:nvSpPr>
        <p:spPr>
          <a:xfrm>
            <a:off x="971640" y="3421080"/>
            <a:ext cx="20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1"/>
          <p:cNvSpPr/>
          <p:nvPr/>
        </p:nvSpPr>
        <p:spPr>
          <a:xfrm>
            <a:off x="1481040" y="3421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5×1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1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Object 40" descr=""/>
          <p:cNvPicPr/>
          <p:nvPr/>
        </p:nvPicPr>
        <p:blipFill>
          <a:blip r:embed="rId3"/>
          <a:stretch/>
        </p:blipFill>
        <p:spPr>
          <a:xfrm>
            <a:off x="2403360" y="5186520"/>
            <a:ext cx="2086200" cy="7524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61"/>
          <p:cNvSpPr/>
          <p:nvPr/>
        </p:nvSpPr>
        <p:spPr>
          <a:xfrm>
            <a:off x="1541520" y="476424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2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2"/>
          <p:cNvSpPr/>
          <p:nvPr/>
        </p:nvSpPr>
        <p:spPr>
          <a:xfrm>
            <a:off x="3467160" y="47736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3"/>
          <p:cNvSpPr/>
          <p:nvPr/>
        </p:nvSpPr>
        <p:spPr>
          <a:xfrm>
            <a:off x="1541520" y="594684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该汽车行驶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20 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所需油费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6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3"/>
          <p:cNvSpPr/>
          <p:nvPr/>
        </p:nvSpPr>
        <p:spPr>
          <a:xfrm>
            <a:off x="4308480" y="531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元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1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1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2"/>
          <p:cNvSpPr/>
          <p:nvPr/>
        </p:nvSpPr>
        <p:spPr>
          <a:xfrm>
            <a:off x="762120" y="4525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一个正比例函数的比例系数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它的解析式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1263600" y="928800"/>
            <a:ext cx="9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-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792000" y="2489040"/>
            <a:ext cx="63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成正比例，并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=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050840" y="325584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619200" y="172404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(k+1)x+k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比例函数，则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=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6370560" y="16398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882720" y="3895560"/>
            <a:ext cx="70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依题意，设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之间的函数关系式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-3=k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866880" y="4452840"/>
            <a:ext cx="53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=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7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7-3=4k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解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=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993600" y="5010120"/>
            <a:ext cx="53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-3=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x+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3"/>
          <p:cNvSpPr/>
          <p:nvPr/>
        </p:nvSpPr>
        <p:spPr>
          <a:xfrm>
            <a:off x="533520" y="47484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某种小汽车的耗油量是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耗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升．所使用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#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汽油今日涨价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升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汽车行驶途中所耗油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与行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之间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平面直角坐标系内描出大致的函数关系图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计算娄底到长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20 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需油费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5475240" y="3344760"/>
            <a:ext cx="3887640" cy="2725560"/>
            <a:chOff x="5475240" y="3344760"/>
            <a:chExt cx="3887640" cy="2725560"/>
          </a:xfrm>
        </p:grpSpPr>
        <p:sp>
          <p:nvSpPr>
            <p:cNvPr id="268" name="Line 5"/>
            <p:cNvSpPr/>
            <p:nvPr/>
          </p:nvSpPr>
          <p:spPr>
            <a:xfrm>
              <a:off x="5475240" y="5750280"/>
              <a:ext cx="3047400" cy="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6"/>
            <p:cNvSpPr/>
            <p:nvPr/>
          </p:nvSpPr>
          <p:spPr>
            <a:xfrm flipH="1" flipV="1">
              <a:off x="5976000" y="3461400"/>
              <a:ext cx="9720" cy="2496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6222240" y="5780880"/>
              <a:ext cx="215280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8"/>
            <p:cNvSpPr/>
            <p:nvPr/>
          </p:nvSpPr>
          <p:spPr>
            <a:xfrm>
              <a:off x="5833800" y="3863520"/>
              <a:ext cx="22104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1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9"/>
            <p:cNvSpPr/>
            <p:nvPr/>
          </p:nvSpPr>
          <p:spPr>
            <a:xfrm>
              <a:off x="6281280" y="5668920"/>
              <a:ext cx="108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>
              <a:off x="6553440" y="5668920"/>
              <a:ext cx="72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6825960" y="5668920"/>
              <a:ext cx="108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>
              <a:off x="7098120" y="5668920"/>
              <a:ext cx="72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7370280" y="5668920"/>
              <a:ext cx="108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7642800" y="5668920"/>
              <a:ext cx="72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5"/>
            <p:cNvSpPr/>
            <p:nvPr/>
          </p:nvSpPr>
          <p:spPr>
            <a:xfrm>
              <a:off x="7914960" y="5668920"/>
              <a:ext cx="108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6"/>
            <p:cNvSpPr/>
            <p:nvPr/>
          </p:nvSpPr>
          <p:spPr>
            <a:xfrm>
              <a:off x="8188200" y="5668920"/>
              <a:ext cx="108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7"/>
            <p:cNvSpPr/>
            <p:nvPr/>
          </p:nvSpPr>
          <p:spPr>
            <a:xfrm flipH="1">
              <a:off x="5997960" y="4031280"/>
              <a:ext cx="7344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8"/>
            <p:cNvSpPr/>
            <p:nvPr/>
          </p:nvSpPr>
          <p:spPr>
            <a:xfrm flipH="1">
              <a:off x="5997960" y="4312800"/>
              <a:ext cx="73440" cy="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9"/>
            <p:cNvSpPr/>
            <p:nvPr/>
          </p:nvSpPr>
          <p:spPr>
            <a:xfrm flipH="1">
              <a:off x="5997960" y="4594680"/>
              <a:ext cx="7344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0"/>
            <p:cNvSpPr/>
            <p:nvPr/>
          </p:nvSpPr>
          <p:spPr>
            <a:xfrm flipH="1">
              <a:off x="5997960" y="4876560"/>
              <a:ext cx="73440" cy="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1"/>
            <p:cNvSpPr/>
            <p:nvPr/>
          </p:nvSpPr>
          <p:spPr>
            <a:xfrm flipH="1">
              <a:off x="5997960" y="5158440"/>
              <a:ext cx="7344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2"/>
            <p:cNvSpPr/>
            <p:nvPr/>
          </p:nvSpPr>
          <p:spPr>
            <a:xfrm flipH="1">
              <a:off x="5997960" y="5441040"/>
              <a:ext cx="7344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8566920" y="5602680"/>
              <a:ext cx="7959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6089760" y="3344760"/>
              <a:ext cx="795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5"/>
            <p:cNvSpPr/>
            <p:nvPr/>
          </p:nvSpPr>
          <p:spPr>
            <a:xfrm rot="5400000">
              <a:off x="5857920" y="5778000"/>
              <a:ext cx="2746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 rot="10800000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 Box 26"/>
          <p:cNvSpPr/>
          <p:nvPr/>
        </p:nvSpPr>
        <p:spPr>
          <a:xfrm>
            <a:off x="5978520" y="3201840"/>
            <a:ext cx="158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y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8"/>
          <p:cNvSpPr/>
          <p:nvPr/>
        </p:nvSpPr>
        <p:spPr>
          <a:xfrm>
            <a:off x="6121440" y="57229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   2  3   4   5   6   7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9"/>
          <p:cNvSpPr/>
          <p:nvPr/>
        </p:nvSpPr>
        <p:spPr>
          <a:xfrm>
            <a:off x="4033800" y="377820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0"/>
          <p:cNvSpPr/>
          <p:nvPr/>
        </p:nvSpPr>
        <p:spPr>
          <a:xfrm>
            <a:off x="5689440" y="37782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1"/>
          <p:cNvSpPr/>
          <p:nvPr/>
        </p:nvSpPr>
        <p:spPr>
          <a:xfrm>
            <a:off x="5689440" y="40654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2"/>
          <p:cNvSpPr/>
          <p:nvPr/>
        </p:nvSpPr>
        <p:spPr>
          <a:xfrm>
            <a:off x="5689440" y="43545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3"/>
          <p:cNvSpPr/>
          <p:nvPr/>
        </p:nvSpPr>
        <p:spPr>
          <a:xfrm>
            <a:off x="5689440" y="46418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4"/>
          <p:cNvSpPr/>
          <p:nvPr/>
        </p:nvSpPr>
        <p:spPr>
          <a:xfrm>
            <a:off x="5689440" y="49309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5"/>
          <p:cNvSpPr/>
          <p:nvPr/>
        </p:nvSpPr>
        <p:spPr>
          <a:xfrm>
            <a:off x="5689440" y="52182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6"/>
          <p:cNvSpPr/>
          <p:nvPr/>
        </p:nvSpPr>
        <p:spPr>
          <a:xfrm>
            <a:off x="5643720" y="5688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7"/>
          <p:cNvSpPr/>
          <p:nvPr/>
        </p:nvSpPr>
        <p:spPr>
          <a:xfrm>
            <a:off x="1298520" y="378612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Object 2" descr=""/>
          <p:cNvPicPr/>
          <p:nvPr/>
        </p:nvPicPr>
        <p:blipFill>
          <a:blip r:embed="rId1"/>
          <a:stretch/>
        </p:blipFill>
        <p:spPr>
          <a:xfrm>
            <a:off x="2341440" y="3436920"/>
            <a:ext cx="935280" cy="76212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1"/>
          <p:cNvSpPr/>
          <p:nvPr/>
        </p:nvSpPr>
        <p:spPr>
          <a:xfrm>
            <a:off x="685800" y="2900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2"/>
          <p:cNvSpPr/>
          <p:nvPr/>
        </p:nvSpPr>
        <p:spPr>
          <a:xfrm>
            <a:off x="1927080" y="3589200"/>
            <a:ext cx="4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3"/>
          <p:cNvSpPr/>
          <p:nvPr/>
        </p:nvSpPr>
        <p:spPr>
          <a:xfrm>
            <a:off x="1225440" y="39988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4"/>
          <p:cNvSpPr/>
          <p:nvPr/>
        </p:nvSpPr>
        <p:spPr>
          <a:xfrm>
            <a:off x="1082520" y="4222800"/>
            <a:ext cx="15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590920" y="4267080"/>
          <a:ext cx="1608120" cy="949320"/>
        </p:xfrm>
        <a:graphic>
          <a:graphicData uri="http://schemas.openxmlformats.org/drawingml/2006/table">
            <a:tbl>
              <a:tblPr/>
              <a:tblGrid>
                <a:gridCol w="536400"/>
                <a:gridCol w="535320"/>
                <a:gridCol w="53640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Text Box 59"/>
          <p:cNvSpPr/>
          <p:nvPr/>
        </p:nvSpPr>
        <p:spPr>
          <a:xfrm>
            <a:off x="1828800" y="4191120"/>
            <a:ext cx="15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列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Object 5" descr=""/>
          <p:cNvPicPr/>
          <p:nvPr/>
        </p:nvPicPr>
        <p:blipFill>
          <a:blip r:embed="rId2"/>
          <a:stretch/>
        </p:blipFill>
        <p:spPr>
          <a:xfrm>
            <a:off x="3809880" y="4729320"/>
            <a:ext cx="281160" cy="50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63"/>
          <p:cNvSpPr/>
          <p:nvPr/>
        </p:nvSpPr>
        <p:spPr>
          <a:xfrm>
            <a:off x="685800" y="60199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娄底到长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2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公里所需油费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6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4"/>
          <p:cNvSpPr/>
          <p:nvPr/>
        </p:nvSpPr>
        <p:spPr>
          <a:xfrm>
            <a:off x="5943600" y="5692680"/>
            <a:ext cx="69840" cy="115920"/>
          </a:xfrm>
          <a:prstGeom prst="flowChartConnec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5"/>
          <p:cNvSpPr/>
          <p:nvPr/>
        </p:nvSpPr>
        <p:spPr>
          <a:xfrm flipV="1">
            <a:off x="6288120" y="55054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6"/>
          <p:cNvSpPr/>
          <p:nvPr/>
        </p:nvSpPr>
        <p:spPr>
          <a:xfrm>
            <a:off x="5985000" y="544212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67"/>
          <p:cNvSpPr/>
          <p:nvPr/>
        </p:nvSpPr>
        <p:spPr>
          <a:xfrm flipH="1">
            <a:off x="6242760" y="5416560"/>
            <a:ext cx="71640" cy="71280"/>
          </a:xfrm>
          <a:prstGeom prst="flowChartConnec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68"/>
          <p:cNvSpPr/>
          <p:nvPr/>
        </p:nvSpPr>
        <p:spPr>
          <a:xfrm flipV="1">
            <a:off x="5994360" y="3530520"/>
            <a:ext cx="2249640" cy="2216160"/>
          </a:xfrm>
          <a:prstGeom prst="line">
            <a:avLst/>
          </a:prstGeom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Object 6" descr=""/>
          <p:cNvPicPr/>
          <p:nvPr/>
        </p:nvPicPr>
        <p:blipFill>
          <a:blip r:embed="rId3"/>
          <a:stretch/>
        </p:blipFill>
        <p:spPr>
          <a:xfrm>
            <a:off x="3429000" y="3613320"/>
            <a:ext cx="936720" cy="50616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70"/>
          <p:cNvSpPr/>
          <p:nvPr/>
        </p:nvSpPr>
        <p:spPr>
          <a:xfrm>
            <a:off x="1828800" y="4495680"/>
            <a:ext cx="17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描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1"/>
          <p:cNvSpPr/>
          <p:nvPr/>
        </p:nvSpPr>
        <p:spPr>
          <a:xfrm>
            <a:off x="1828800" y="4800600"/>
            <a:ext cx="11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连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61"/>
          <p:cNvGrpSpPr/>
          <p:nvPr/>
        </p:nvGrpSpPr>
        <p:grpSpPr>
          <a:xfrm>
            <a:off x="1752480" y="5262480"/>
            <a:ext cx="3167280" cy="752400"/>
            <a:chOff x="1752480" y="5262480"/>
            <a:chExt cx="3167280" cy="752400"/>
          </a:xfrm>
        </p:grpSpPr>
        <p:pic>
          <p:nvPicPr>
            <p:cNvPr id="318" name="Object 4" descr=""/>
            <p:cNvPicPr/>
            <p:nvPr/>
          </p:nvPicPr>
          <p:blipFill>
            <a:blip r:embed="rId4"/>
            <a:stretch/>
          </p:blipFill>
          <p:spPr>
            <a:xfrm>
              <a:off x="1752480" y="5262480"/>
              <a:ext cx="208620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73"/>
            <p:cNvSpPr/>
            <p:nvPr/>
          </p:nvSpPr>
          <p:spPr>
            <a:xfrm>
              <a:off x="3624480" y="540684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元）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Box 63"/>
          <p:cNvSpPr/>
          <p:nvPr/>
        </p:nvSpPr>
        <p:spPr>
          <a:xfrm>
            <a:off x="1066680" y="541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Object 2" descr=""/>
          <p:cNvPicPr/>
          <p:nvPr/>
        </p:nvPicPr>
        <p:blipFill>
          <a:blip r:embed="rId5"/>
          <a:stretch/>
        </p:blipFill>
        <p:spPr>
          <a:xfrm>
            <a:off x="2057400" y="2679840"/>
            <a:ext cx="15746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"/>
                            </p:stCondLst>
                            <p:childTnLst>
                              <p:par>
                                <p:cTn id="535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1"/>
                            </p:stCondLst>
                            <p:childTnLst>
                              <p:par>
                                <p:cTn id="542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dur="indefinite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351080" y="2886120"/>
            <a:ext cx="17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比例函数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组合 12"/>
          <p:cNvGrpSpPr/>
          <p:nvPr/>
        </p:nvGrpSpPr>
        <p:grpSpPr>
          <a:xfrm>
            <a:off x="3062160" y="1503360"/>
            <a:ext cx="3606840" cy="3371760"/>
            <a:chOff x="3062160" y="1503360"/>
            <a:chExt cx="3606840" cy="3371760"/>
          </a:xfrm>
        </p:grpSpPr>
        <p:grpSp>
          <p:nvGrpSpPr>
            <p:cNvPr id="325" name="组合 16"/>
            <p:cNvGrpSpPr/>
            <p:nvPr/>
          </p:nvGrpSpPr>
          <p:grpSpPr>
            <a:xfrm>
              <a:off x="3062160" y="1503360"/>
              <a:ext cx="2957400" cy="3371760"/>
              <a:chOff x="3062160" y="1503360"/>
              <a:chExt cx="2957400" cy="3371760"/>
            </a:xfrm>
          </p:grpSpPr>
          <p:sp>
            <p:nvSpPr>
              <p:cNvPr id="326" name="Text Box 4"/>
              <p:cNvSpPr/>
              <p:nvPr/>
            </p:nvSpPr>
            <p:spPr>
              <a:xfrm>
                <a:off x="3347640" y="1849320"/>
                <a:ext cx="267192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正比例函数的概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7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062160" y="1503360"/>
                <a:ext cx="650520" cy="337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8" name="Text Box 4"/>
            <p:cNvSpPr/>
            <p:nvPr/>
          </p:nvSpPr>
          <p:spPr>
            <a:xfrm>
              <a:off x="3367800" y="3968640"/>
              <a:ext cx="330120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正比例函数的简单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正比例函数的概念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重点、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会运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比例函数解决简单的实际问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428760" y="83664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境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2289"/>
          <p:cNvSpPr/>
          <p:nvPr/>
        </p:nvSpPr>
        <p:spPr>
          <a:xfrm>
            <a:off x="971640" y="126828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古代，许多民族与地区使用水钟来计时，如图所示．当时的人们通过容器泄水的流量来判断时间的多少．那么你知道为什么可以用水流量来判断时间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2290" descr="75718557"/>
          <p:cNvPicPr/>
          <p:nvPr/>
        </p:nvPicPr>
        <p:blipFill>
          <a:blip r:embed="rId1"/>
          <a:stretch/>
        </p:blipFill>
        <p:spPr>
          <a:xfrm>
            <a:off x="4932360" y="3144960"/>
            <a:ext cx="3743280" cy="330840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2291"/>
          <p:cNvSpPr/>
          <p:nvPr/>
        </p:nvSpPr>
        <p:spPr>
          <a:xfrm>
            <a:off x="1081080" y="3522600"/>
            <a:ext cx="34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假设漏水量是均匀的，受水壶中的浮子就会均匀升高，也就是说，浮子升高高度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=k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常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6147"/>
          <p:cNvGrpSpPr/>
          <p:nvPr/>
        </p:nvGrpSpPr>
        <p:grpSpPr>
          <a:xfrm>
            <a:off x="325440" y="246240"/>
            <a:ext cx="3013920" cy="808200"/>
            <a:chOff x="325440" y="246240"/>
            <a:chExt cx="3013920" cy="808200"/>
          </a:xfrm>
        </p:grpSpPr>
        <p:sp>
          <p:nvSpPr>
            <p:cNvPr id="84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6151"/>
            <p:cNvSpPr/>
            <p:nvPr/>
          </p:nvSpPr>
          <p:spPr>
            <a:xfrm>
              <a:off x="1451880" y="5202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正比例函数的概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圆角矩形 31"/>
          <p:cNvSpPr/>
          <p:nvPr/>
        </p:nvSpPr>
        <p:spPr>
          <a:xfrm>
            <a:off x="428760" y="11955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774720" y="1725480"/>
            <a:ext cx="73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问题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问题中的变量对应规律可用怎样的函数表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62120" y="29368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圆的周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随半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大小变化而变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62120" y="39528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铁的密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.8g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铁块的质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单位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随它的体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单位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大小变化 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590920" y="3470400"/>
            <a:ext cx="53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L=2π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666880" y="5307120"/>
            <a:ext cx="13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m=7.8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4514760" y="3679920"/>
            <a:ext cx="114480" cy="2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1066680" y="3927600"/>
            <a:ext cx="67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冷冻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体，使它每分下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物体的温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单位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随冷冻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单位：分）的变化而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990720" y="6494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问题中的变量对应规律可用怎样的函数表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066680" y="17272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每个练习本的厚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5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一些练习本撂在一起的总厚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单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随这些练习本的本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变化而变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352680" y="3352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h=0.5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352680" y="5410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T=-2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20640" y="581040"/>
            <a:ext cx="78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问题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认真观察以上出现的四个函数解析式，分别说出哪些是函数、常数和自变量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4000" y="1922400"/>
          <a:ext cx="5256000" cy="3781440"/>
        </p:xfrm>
        <a:graphic>
          <a:graphicData uri="http://schemas.openxmlformats.org/drawingml/2006/table">
            <a:tbl>
              <a:tblPr/>
              <a:tblGrid>
                <a:gridCol w="2015640"/>
                <a:gridCol w="1008360"/>
                <a:gridCol w="936360"/>
                <a:gridCol w="1295640"/>
              </a:tblGrid>
              <a:tr h="71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函数解析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函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常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自变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黑体"/>
                        </a:rPr>
                        <a:t>l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π</a:t>
                      </a: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m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=7.8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V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h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= 0.5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T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= -2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黑体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AutoShape 35"/>
          <p:cNvSpPr/>
          <p:nvPr/>
        </p:nvSpPr>
        <p:spPr>
          <a:xfrm>
            <a:off x="6084720" y="2111400"/>
            <a:ext cx="2521080" cy="966600"/>
          </a:xfrm>
          <a:prstGeom prst="wedgeRoundRectCallout">
            <a:avLst>
              <a:gd name="adj1" fmla="val -68388"/>
              <a:gd name="adj2" fmla="val 8884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些函数解析式有什么共同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5940360" y="278460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些函数解析式都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常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自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乘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形式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7"/>
          <p:cNvSpPr/>
          <p:nvPr/>
        </p:nvSpPr>
        <p:spPr>
          <a:xfrm>
            <a:off x="3419640" y="27874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8"/>
          <p:cNvSpPr/>
          <p:nvPr/>
        </p:nvSpPr>
        <p:spPr>
          <a:xfrm>
            <a:off x="4643280" y="27874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9"/>
          <p:cNvSpPr/>
          <p:nvPr/>
        </p:nvSpPr>
        <p:spPr>
          <a:xfrm>
            <a:off x="2700360" y="2714760"/>
            <a:ext cx="6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0"/>
          <p:cNvSpPr/>
          <p:nvPr/>
        </p:nvSpPr>
        <p:spPr>
          <a:xfrm>
            <a:off x="3458520" y="35798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1"/>
          <p:cNvSpPr/>
          <p:nvPr/>
        </p:nvSpPr>
        <p:spPr>
          <a:xfrm>
            <a:off x="4610880" y="3579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2"/>
          <p:cNvSpPr/>
          <p:nvPr/>
        </p:nvSpPr>
        <p:spPr>
          <a:xfrm>
            <a:off x="2514240" y="35798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2628360" y="437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4"/>
          <p:cNvSpPr/>
          <p:nvPr/>
        </p:nvSpPr>
        <p:spPr>
          <a:xfrm>
            <a:off x="2540160" y="5091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5"/>
          <p:cNvSpPr/>
          <p:nvPr/>
        </p:nvSpPr>
        <p:spPr>
          <a:xfrm>
            <a:off x="4677840" y="5091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6"/>
          <p:cNvSpPr/>
          <p:nvPr/>
        </p:nvSpPr>
        <p:spPr>
          <a:xfrm>
            <a:off x="3458520" y="4299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7"/>
          <p:cNvSpPr/>
          <p:nvPr/>
        </p:nvSpPr>
        <p:spPr>
          <a:xfrm>
            <a:off x="3589920" y="5091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8"/>
          <p:cNvSpPr/>
          <p:nvPr/>
        </p:nvSpPr>
        <p:spPr>
          <a:xfrm>
            <a:off x="4644360" y="4299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6012000" y="401148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常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×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自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1325"/>
          <p:cNvGrpSpPr/>
          <p:nvPr/>
        </p:nvGrpSpPr>
        <p:grpSpPr>
          <a:xfrm>
            <a:off x="6292800" y="4429080"/>
            <a:ext cx="2378160" cy="1034280"/>
            <a:chOff x="6292800" y="4429080"/>
            <a:chExt cx="2378160" cy="1034280"/>
          </a:xfrm>
        </p:grpSpPr>
        <p:sp>
          <p:nvSpPr>
            <p:cNvPr id="119" name="Text Box 51"/>
            <p:cNvSpPr/>
            <p:nvPr/>
          </p:nvSpPr>
          <p:spPr>
            <a:xfrm>
              <a:off x="6292800" y="493200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52"/>
            <p:cNvSpPr/>
            <p:nvPr/>
          </p:nvSpPr>
          <p:spPr>
            <a:xfrm>
              <a:off x="7088400" y="49654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3"/>
            <p:cNvSpPr/>
            <p:nvPr/>
          </p:nvSpPr>
          <p:spPr>
            <a:xfrm>
              <a:off x="8167680" y="49654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54"/>
            <p:cNvSpPr/>
            <p:nvPr/>
          </p:nvSpPr>
          <p:spPr>
            <a:xfrm>
              <a:off x="6437520" y="4449600"/>
              <a:ext cx="0" cy="576360"/>
            </a:xfrm>
            <a:prstGeom prst="line">
              <a:avLst/>
            </a:prstGeom>
            <a:ln w="28440">
              <a:solidFill>
                <a:srgbClr val="993366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5"/>
            <p:cNvSpPr/>
            <p:nvPr/>
          </p:nvSpPr>
          <p:spPr>
            <a:xfrm>
              <a:off x="7232760" y="4449600"/>
              <a:ext cx="0" cy="576360"/>
            </a:xfrm>
            <a:prstGeom prst="line">
              <a:avLst/>
            </a:prstGeom>
            <a:ln w="28440">
              <a:solidFill>
                <a:srgbClr val="993366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6"/>
            <p:cNvSpPr/>
            <p:nvPr/>
          </p:nvSpPr>
          <p:spPr>
            <a:xfrm>
              <a:off x="8313840" y="4429080"/>
              <a:ext cx="0" cy="645840"/>
            </a:xfrm>
            <a:prstGeom prst="line">
              <a:avLst/>
            </a:prstGeom>
            <a:ln w="28440">
              <a:solidFill>
                <a:srgbClr val="993366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57"/>
            <p:cNvSpPr/>
            <p:nvPr/>
          </p:nvSpPr>
          <p:spPr>
            <a:xfrm>
              <a:off x="6438960" y="50036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对象 11324" descr=""/>
            <p:cNvPicPr/>
            <p:nvPr/>
          </p:nvPicPr>
          <p:blipFill>
            <a:blip r:embed="rId1"/>
            <a:stretch/>
          </p:blipFill>
          <p:spPr>
            <a:xfrm>
              <a:off x="7621560" y="5047920"/>
              <a:ext cx="298440" cy="38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dur="indefinite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28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圆角矩形 31"/>
          <p:cNvSpPr/>
          <p:nvPr/>
        </p:nvSpPr>
        <p:spPr>
          <a:xfrm>
            <a:off x="357120" y="71424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11280" y="1125360"/>
            <a:ext cx="80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地，形如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k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常数，</a:t>
            </a: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≠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的函数，叫做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正比例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其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叫做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比例系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24000" y="3070080"/>
            <a:ext cx="90010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 flipH="1">
            <a:off x="7806600" y="4341960"/>
            <a:ext cx="1336680" cy="887400"/>
          </a:xfrm>
          <a:prstGeom prst="cloudCallout">
            <a:avLst>
              <a:gd name="adj1" fmla="val 124583"/>
              <a:gd name="adj2" fmla="val 5298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思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40360" y="5229360"/>
            <a:ext cx="43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为什么强调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是常数，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≠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4000" y="3070080"/>
            <a:ext cx="90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443640" y="5662440"/>
            <a:ext cx="27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3851280" y="3177720"/>
            <a:ext cx="4352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y  =  k   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(k≠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的常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4780080" y="2457000"/>
            <a:ext cx="912240" cy="725760"/>
            <a:chOff x="4780080" y="2457000"/>
            <a:chExt cx="912240" cy="725760"/>
          </a:xfrm>
        </p:grpSpPr>
        <p:sp>
          <p:nvSpPr>
            <p:cNvPr id="139" name="Rectangle 10"/>
            <p:cNvSpPr/>
            <p:nvPr/>
          </p:nvSpPr>
          <p:spPr>
            <a:xfrm>
              <a:off x="4780080" y="2457000"/>
              <a:ext cx="912240" cy="459720"/>
            </a:xfrm>
            <a:prstGeom prst="rect">
              <a:avLst/>
            </a:prstGeom>
            <a:solidFill>
              <a:srgbClr val="3399ff"/>
            </a:solidFill>
            <a:ln cap="sq"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比例系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1"/>
            <p:cNvSpPr/>
            <p:nvPr/>
          </p:nvSpPr>
          <p:spPr>
            <a:xfrm>
              <a:off x="5197680" y="2954160"/>
              <a:ext cx="0" cy="228600"/>
            </a:xfrm>
            <a:prstGeom prst="line">
              <a:avLst/>
            </a:prstGeom>
            <a:ln cap="sq"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2"/>
          <p:cNvGrpSpPr/>
          <p:nvPr/>
        </p:nvGrpSpPr>
        <p:grpSpPr>
          <a:xfrm>
            <a:off x="324000" y="1963800"/>
            <a:ext cx="8554680" cy="2642040"/>
            <a:chOff x="324000" y="1963800"/>
            <a:chExt cx="8554680" cy="2642040"/>
          </a:xfrm>
        </p:grpSpPr>
        <p:grpSp>
          <p:nvGrpSpPr>
            <p:cNvPr id="142" name="Group 13"/>
            <p:cNvGrpSpPr/>
            <p:nvPr/>
          </p:nvGrpSpPr>
          <p:grpSpPr>
            <a:xfrm>
              <a:off x="5270400" y="3652920"/>
              <a:ext cx="729360" cy="952920"/>
              <a:chOff x="5270400" y="3652920"/>
              <a:chExt cx="729360" cy="952920"/>
            </a:xfrm>
          </p:grpSpPr>
          <p:sp>
            <p:nvSpPr>
              <p:cNvPr id="143" name="Rectangle 14"/>
              <p:cNvSpPr/>
              <p:nvPr/>
            </p:nvSpPr>
            <p:spPr>
              <a:xfrm>
                <a:off x="5270400" y="4146120"/>
                <a:ext cx="729360" cy="459720"/>
              </a:xfrm>
              <a:prstGeom prst="rect">
                <a:avLst/>
              </a:prstGeom>
              <a:solidFill>
                <a:srgbClr val="3399ff"/>
              </a:solidFill>
              <a:ln cap="sq"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变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15"/>
              <p:cNvSpPr/>
              <p:nvPr/>
            </p:nvSpPr>
            <p:spPr>
              <a:xfrm flipV="1">
                <a:off x="5613480" y="3652920"/>
                <a:ext cx="0" cy="457200"/>
              </a:xfrm>
              <a:prstGeom prst="line">
                <a:avLst/>
              </a:prstGeom>
              <a:ln cap="sq" w="381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16"/>
            <p:cNvGrpSpPr/>
            <p:nvPr/>
          </p:nvGrpSpPr>
          <p:grpSpPr>
            <a:xfrm>
              <a:off x="324000" y="3193560"/>
              <a:ext cx="3530160" cy="459720"/>
              <a:chOff x="324000" y="3193560"/>
              <a:chExt cx="3530160" cy="459720"/>
            </a:xfrm>
          </p:grpSpPr>
          <p:sp>
            <p:nvSpPr>
              <p:cNvPr id="146" name="Rectangle 17"/>
              <p:cNvSpPr/>
              <p:nvPr/>
            </p:nvSpPr>
            <p:spPr>
              <a:xfrm>
                <a:off x="324000" y="3193560"/>
                <a:ext cx="2994120" cy="459720"/>
              </a:xfrm>
              <a:prstGeom prst="rect">
                <a:avLst/>
              </a:prstGeom>
              <a:solidFill>
                <a:srgbClr val="3399ff"/>
              </a:solidFill>
              <a:ln cap="sq"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正比例函数一般形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18"/>
              <p:cNvSpPr/>
              <p:nvPr/>
            </p:nvSpPr>
            <p:spPr>
              <a:xfrm>
                <a:off x="3341160" y="3426840"/>
                <a:ext cx="513000" cy="0"/>
              </a:xfrm>
              <a:prstGeom prst="line">
                <a:avLst/>
              </a:prstGeom>
              <a:ln cap="sq" w="381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Text Box 19"/>
            <p:cNvSpPr/>
            <p:nvPr/>
          </p:nvSpPr>
          <p:spPr>
            <a:xfrm>
              <a:off x="495360" y="1963800"/>
              <a:ext cx="8383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000000"/>
                </a:buClr>
                <a:buSzPct val="90000"/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20"/>
          <p:cNvSpPr/>
          <p:nvPr/>
        </p:nvSpPr>
        <p:spPr>
          <a:xfrm>
            <a:off x="-468360" y="422100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179280" y="3925800"/>
            <a:ext cx="392436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注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: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比例函数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y=k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≠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结构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≠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次数是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圆角矩形 31"/>
          <p:cNvSpPr/>
          <p:nvPr/>
        </p:nvSpPr>
        <p:spPr>
          <a:xfrm>
            <a:off x="285840" y="642960"/>
            <a:ext cx="13129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914400" y="12070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判断下列函数解析式是否是正比例函数？如果是，指出其比例系数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Object 2" descr=""/>
          <p:cNvPicPr/>
          <p:nvPr/>
        </p:nvPicPr>
        <p:blipFill>
          <a:blip r:embed="rId1"/>
          <a:stretch/>
        </p:blipFill>
        <p:spPr>
          <a:xfrm>
            <a:off x="4894200" y="2465280"/>
            <a:ext cx="2576520" cy="490680"/>
          </a:xfrm>
          <a:prstGeom prst="rect">
            <a:avLst/>
          </a:prstGeom>
          <a:ln w="0">
            <a:noFill/>
          </a:ln>
        </p:spPr>
      </p:pic>
      <p:pic>
        <p:nvPicPr>
          <p:cNvPr id="155" name="Object 3" descr=""/>
          <p:cNvPicPr/>
          <p:nvPr/>
        </p:nvPicPr>
        <p:blipFill>
          <a:blip r:embed="rId2"/>
          <a:stretch/>
        </p:blipFill>
        <p:spPr>
          <a:xfrm>
            <a:off x="1487520" y="2984400"/>
            <a:ext cx="1496880" cy="99720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4" descr=""/>
          <p:cNvPicPr/>
          <p:nvPr/>
        </p:nvPicPr>
        <p:blipFill>
          <a:blip r:embed="rId3"/>
          <a:stretch/>
        </p:blipFill>
        <p:spPr>
          <a:xfrm>
            <a:off x="4894200" y="4052880"/>
            <a:ext cx="1744560" cy="56664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5" descr=""/>
          <p:cNvPicPr/>
          <p:nvPr/>
        </p:nvPicPr>
        <p:blipFill>
          <a:blip r:embed="rId4"/>
          <a:stretch/>
        </p:blipFill>
        <p:spPr>
          <a:xfrm>
            <a:off x="1521000" y="2523960"/>
            <a:ext cx="1535040" cy="46044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6" descr=""/>
          <p:cNvPicPr/>
          <p:nvPr/>
        </p:nvPicPr>
        <p:blipFill>
          <a:blip r:embed="rId5"/>
          <a:stretch/>
        </p:blipFill>
        <p:spPr>
          <a:xfrm>
            <a:off x="4851360" y="2968560"/>
            <a:ext cx="1641600" cy="996840"/>
          </a:xfrm>
          <a:prstGeom prst="rect">
            <a:avLst/>
          </a:prstGeom>
          <a:ln w="0">
            <a:noFill/>
          </a:ln>
        </p:spPr>
      </p:pic>
      <p:pic>
        <p:nvPicPr>
          <p:cNvPr id="159" name="Object 7" descr=""/>
          <p:cNvPicPr/>
          <p:nvPr/>
        </p:nvPicPr>
        <p:blipFill>
          <a:blip r:embed="rId6"/>
          <a:stretch/>
        </p:blipFill>
        <p:spPr>
          <a:xfrm>
            <a:off x="1468440" y="4044960"/>
            <a:ext cx="1620720" cy="4716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3"/>
          <p:cNvSpPr/>
          <p:nvPr/>
        </p:nvSpPr>
        <p:spPr>
          <a:xfrm>
            <a:off x="3352680" y="2411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5"/>
          <p:cNvSpPr/>
          <p:nvPr/>
        </p:nvSpPr>
        <p:spPr>
          <a:xfrm>
            <a:off x="6831000" y="31082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3"/>
          <p:cNvSpPr/>
          <p:nvPr/>
        </p:nvSpPr>
        <p:spPr>
          <a:xfrm>
            <a:off x="3281400" y="39099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6"/>
          <p:cNvSpPr/>
          <p:nvPr/>
        </p:nvSpPr>
        <p:spPr>
          <a:xfrm>
            <a:off x="7427880" y="2319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10"/>
          <p:cNvGrpSpPr/>
          <p:nvPr/>
        </p:nvGrpSpPr>
        <p:grpSpPr>
          <a:xfrm>
            <a:off x="3314880" y="3060720"/>
            <a:ext cx="1121760" cy="807840"/>
            <a:chOff x="3314880" y="3060720"/>
            <a:chExt cx="1121760" cy="807840"/>
          </a:xfrm>
        </p:grpSpPr>
        <p:sp>
          <p:nvSpPr>
            <p:cNvPr id="165" name="TextBox 16"/>
            <p:cNvSpPr/>
            <p:nvPr/>
          </p:nvSpPr>
          <p:spPr>
            <a:xfrm>
              <a:off x="3314880" y="312912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是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对象 5" descr=""/>
            <p:cNvPicPr/>
            <p:nvPr/>
          </p:nvPicPr>
          <p:blipFill>
            <a:blip r:embed="rId7"/>
            <a:stretch/>
          </p:blipFill>
          <p:spPr>
            <a:xfrm>
              <a:off x="3916080" y="3060720"/>
              <a:ext cx="520560" cy="80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组合 9"/>
          <p:cNvGrpSpPr/>
          <p:nvPr/>
        </p:nvGrpSpPr>
        <p:grpSpPr>
          <a:xfrm>
            <a:off x="6961320" y="3940200"/>
            <a:ext cx="1239480" cy="642600"/>
            <a:chOff x="6961320" y="3940200"/>
            <a:chExt cx="1239480" cy="642600"/>
          </a:xfrm>
        </p:grpSpPr>
        <p:sp>
          <p:nvSpPr>
            <p:cNvPr id="168" name="TextBox 14"/>
            <p:cNvSpPr/>
            <p:nvPr/>
          </p:nvSpPr>
          <p:spPr>
            <a:xfrm>
              <a:off x="6961320" y="3940200"/>
              <a:ext cx="99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是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对象 7" descr=""/>
            <p:cNvPicPr/>
            <p:nvPr/>
          </p:nvPicPr>
          <p:blipFill>
            <a:blip r:embed="rId8"/>
            <a:stretch/>
          </p:blipFill>
          <p:spPr>
            <a:xfrm>
              <a:off x="7550640" y="4077360"/>
              <a:ext cx="650160" cy="469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圆角矩形 31"/>
          <p:cNvSpPr/>
          <p:nvPr/>
        </p:nvSpPr>
        <p:spPr>
          <a:xfrm>
            <a:off x="573120" y="642960"/>
            <a:ext cx="10285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1555920" y="1519200"/>
            <a:ext cx="47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函数中哪些是正比例函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343400" y="2278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305000" y="22780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281240" y="3025800"/>
            <a:ext cx="21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4340160" y="3025800"/>
            <a:ext cx="23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0.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"/>
          <p:cNvGrpSpPr/>
          <p:nvPr/>
        </p:nvGrpSpPr>
        <p:grpSpPr>
          <a:xfrm>
            <a:off x="1281240" y="3849840"/>
            <a:ext cx="2842920" cy="489240"/>
            <a:chOff x="1281240" y="3849840"/>
            <a:chExt cx="2842920" cy="489240"/>
          </a:xfrm>
        </p:grpSpPr>
        <p:sp>
          <p:nvSpPr>
            <p:cNvPr id="177" name="Rectangle 11"/>
            <p:cNvSpPr/>
            <p:nvPr/>
          </p:nvSpPr>
          <p:spPr>
            <a:xfrm>
              <a:off x="1281240" y="3879360"/>
              <a:ext cx="28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对象 4" descr=""/>
            <p:cNvPicPr/>
            <p:nvPr/>
          </p:nvPicPr>
          <p:blipFill>
            <a:blip r:embed="rId1"/>
            <a:stretch/>
          </p:blipFill>
          <p:spPr>
            <a:xfrm>
              <a:off x="2598480" y="3849840"/>
              <a:ext cx="1049760" cy="48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文本框 6"/>
          <p:cNvSpPr/>
          <p:nvPr/>
        </p:nvSpPr>
        <p:spPr>
          <a:xfrm>
            <a:off x="3043080" y="22068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宋体"/>
                <a:ea typeface="华文宋体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7"/>
          <p:cNvSpPr/>
          <p:nvPr/>
        </p:nvSpPr>
        <p:spPr>
          <a:xfrm>
            <a:off x="6278400" y="29084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宋体"/>
                <a:ea typeface="华文宋体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8"/>
          <p:cNvSpPr/>
          <p:nvPr/>
        </p:nvSpPr>
        <p:spPr>
          <a:xfrm>
            <a:off x="4004280" y="3743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宋体"/>
                <a:ea typeface="华文宋体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340160" y="389412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+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44:48Z</dcterms:created>
  <dc:creator> </dc:creator>
  <dc:description> </dc:description>
  <dc:language>en-US</dc:language>
  <cp:lastModifiedBy>Administrator</cp:lastModifiedBy>
  <dcterms:modified xsi:type="dcterms:W3CDTF">2018-12-29T02:45:18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